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80A-58CD-4F2F-BAD1-9997AD84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A6D-1FF2-4C15-B38B-532F3493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2E6-576C-42A9-9522-50A13926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B01-A55B-422F-AFF0-13D42FB6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8728-7C45-4EBC-B24B-361E5262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6107-0D36-4976-99FA-804F488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6B15-6C73-452B-BCA5-17BF759F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A94D-5282-420E-8FFE-003AC9A8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E408-E34B-45FC-AF21-43B45D3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B1A1-E1C4-4BD8-8FAF-62E22BA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B24-4D61-429C-98AD-85537BF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E3A-C3E5-43BF-BAA0-24B8024E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2F6D-8EC3-4F52-B81F-8C376C7C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D7C5-D3D6-41CF-9999-4D8011AA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CFE6-BA41-4F5B-9551-D8C79139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CA0-ADB4-4962-BD6A-99843E31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614A-6B5A-4537-BE71-C5E12330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8E9-E9EF-48CB-87CA-17E8ECE0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0B2-71AD-4721-9D64-568A6A98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1CB-048C-4051-8E40-F213C174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624-BFC7-4B4B-9272-D4A13862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9CF-37A5-4CDE-842B-11F2218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DE9-636A-413B-83A4-3251765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BC9-6CE3-4DA1-A091-8CD5A6DA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0E8E-2A6C-4E91-AD5D-B22E7844A5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0994-37C4-4FE3-9372-0B62E63183E0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Intermediate 1 &amp;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to pass your Close Reading Ex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Figurative Language – a compariso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imile – using like/as to compa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taphor – a comparis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ersonification – comparison with a pers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tate what 2 things are being compared – say why this is effect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unds of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lliteration – repetition of sounds.  What effect is the writer trying to achiev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ssonance – repetition of vowel soun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Onomatopoeia – words that sound like the sounds they describe – e.g. snap, crackl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umorous – light hearted (telling a joke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Ironic – tongue in cheek (saying the opposite to mock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Emotive (emotional) Which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atty - (slang, abbreviation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ersuasive (trying to make you do or believe someth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Link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ay what the link is (the middle of the chain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ay what goes before the lin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ay what comes after the lin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ll 3 will be required to get the marks – you must use your own words if you can – don’t just copy what is before and af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re are 3 types of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Understan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nalys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Evalu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Understanding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ill be marked with (U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re the easiest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must use your own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must find information in the tex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Use your own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ummarise in your own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Define in your own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List in your own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Keep an eye on the number of marks available to help you decide how many points to mak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Use bullet points if you c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Context shows meaning of a wor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ay what the word me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how how the rest of the text makes this clear.  You must quote the words that give you clu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valuation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effectively has something been writt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hy is it good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must use your own opinion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Link your opinion with features of the text.  “It is effective because it uses……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nalysis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ord Cho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entence Stru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Imagery or figurative langu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Link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ounds of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ord Cho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Informal – formal - technic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Use of dial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oice of a word over another – e.g. strolled or hurried rather than walk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ick single words – quote and analy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entence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hat type of sentence is i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(Statement, Question, Command, Exclamation, Minor Sentenc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long is the sentence and wh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ord order: list, repetition, climax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1:20:10Z</dcterms:created>
  <dc:creator>Mandy Tevendale</dc:creator>
  <dc:description/>
  <dc:language>en-US</dc:language>
  <cp:lastModifiedBy>Your User Name</cp:lastModifiedBy>
  <dcterms:modified xsi:type="dcterms:W3CDTF">2011-12-01T19:40:31Z</dcterms:modified>
  <cp:revision>11</cp:revision>
  <dc:subject/>
  <dc:title>Intermediate 1 &amp; 2</dc:title>
</cp:coreProperties>
</file>